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3D1-0384-4E6C-9D2D-3FF2761D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74EE-4F1D-482F-8CFE-E4C1EBD9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68F-97A4-4192-87BA-6133D3BC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4C56-9DC1-463A-AEAA-1C46C00F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777-B8CD-4B63-9EC3-0F7C8309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068-EBCD-4C3F-A227-622C4125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FE2-A462-4F8A-9D14-A67D7D58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EE1-681F-4E4A-A73F-9B1F6B8F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BAE-6413-44F7-94D8-393CAF12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963-9B53-417F-B5F6-40631CDE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431-3B96-4866-8168-953EA106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B66-EC09-4742-B596-EA62FF7A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F12F-52C5-47D4-819F-5F4FE4B9DA6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1:54Z</dcterms:modified>
  <cp:revision>144</cp:revision>
  <dc:subject/>
  <dc:title>Properties of Regular Languages</dc:title>
</cp:coreProperties>
</file>